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38E-EF47-4279-8700-462A8CF2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757-2E08-42D8-A9C0-148B9C3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BC0-2588-4C32-AB75-88D03A7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6FD-DC12-4721-983A-B3F58099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3F8-224E-4291-8AB9-32F66D01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74D-1D18-4504-ABDF-9CA2AC4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081-C73A-447B-8E18-CC5E9803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FE1-50DF-4EF2-911B-C7724E23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4EC-26EB-4803-96A5-2B32CFE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753-32FB-41A5-B5B7-5C16CD98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61E-9C42-42F8-814A-08C80E0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58E-1688-435F-9806-C7E5E90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BED-7577-44FC-961E-AA600B4DD5F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06T08:45:27Z</dcterms:modified>
  <cp:revision>110</cp:revision>
  <dc:subject/>
  <dc:title>PowerPoint</dc:title>
</cp:coreProperties>
</file>